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3AF5-4A0B-41A0-A34B-B7450E05C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F431-4533-4652-8502-4C364B358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0CD9-A249-4CE0-8DB0-841C25F06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B212-8555-4468-9496-D6469BFA73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317A-170A-4BA5-928D-647479E22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AA70-3692-4A42-816B-3759B81D2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1474-D75A-4038-AB99-046A3EECE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FD44-FABB-4FDF-AF65-FC14F8A3F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B2FA-110D-440A-BAD9-4BB1FB76A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E616-14E0-4A5F-BE5E-96FB5901A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BAB2-A638-479C-867F-18CE3058F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8E68-0C11-46E7-99FE-35691371A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1300-CF55-4A7F-8AA0-02BB06E0B8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B203-3196-4BAC-A3DA-826F48788C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The Journey Beg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2362320"/>
            <a:ext cx="78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Excerpt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Give Effective Feedback to your Stude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usan Brookh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ptional Ho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 know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amples of generalization and justification in stud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crete model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nections between patterning and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E9C1-DC82-4D0D-81DD-D71FDDFB73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81AF-2CE8-461E-86F1-30E84C0483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B72A-7DA3-45F8-8B26-C869B1BBA5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5C68-FD6F-4AAF-A28E-2CCBF7AA64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0880" y="10666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 Who are We?  ~ 1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stickers on chart paper to create 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al Glyph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ions on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74320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666880"/>
            <a:ext cx="5181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ses you have experience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ne or two courses your intereste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xperienced AND inter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3526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Personal Goals ~ 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the Ques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Why did you come to Math Camppp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lustrate your groups’ responses on chart paper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1ACB-F6D7-4171-A7C1-C50009A908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C49-A499-41AF-AD33-5254A3F503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iscuss examples of Algebraic Thinking in student samples from the “Cube Sticker Probl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 to Generalization Strategies and Justification Framework from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pair.  Share and compare you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961F-A09E-4B9A-A1CA-B997A95B51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DE4E-C9A3-47EF-AA1D-9DB4B41E8B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876560" y="1523880"/>
            <a:ext cx="3505320" cy="1066680"/>
            <a:chOff x="4876560" y="1523880"/>
            <a:chExt cx="3505320" cy="1066680"/>
          </a:xfrm>
        </p:grpSpPr>
        <p:sp>
          <p:nvSpPr>
            <p:cNvPr id="76" name=""/>
            <p:cNvSpPr/>
            <p:nvPr/>
          </p:nvSpPr>
          <p:spPr>
            <a:xfrm>
              <a:off x="4952880" y="1523880"/>
              <a:ext cx="3429000" cy="838080"/>
            </a:xfrm>
            <a:prstGeom prst="cloudCallout">
              <a:avLst>
                <a:gd name="adj1" fmla="val -23379"/>
                <a:gd name="adj2" fmla="val 42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876560" y="2286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100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Work with a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Viewing the Area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88E1-1784-4193-814F-667E3FCF3C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59EB-A45C-4DBF-AB0A-9B755CD6E4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380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4000"/>
          </a:bodyPr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Organizer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 organizer to help you record and reflect on your personal  learning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erspective Pass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-book to record interesting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at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 organizer to illustrate your travels and the pathways betwee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1F12-68BD-4E63-9975-97FB15F89A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3A41-5E4D-426F-BFDA-FBB8599A4A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7696080" y="3733920"/>
            <a:ext cx="1227240" cy="114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670536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EB75-A684-4F0D-8DCC-917405C2BC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C4DC-9BE0-4A1F-A3FC-ABC7ED465C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F9E1-FD76-4860-98F4-706EE18C02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0E25-C39E-4C9A-AD52-A1752C81AF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50:47Z</dcterms:modified>
  <cp:revision>28</cp:revision>
  <dc:subject/>
  <dc:title>&lt;Title&gt;</dc:title>
</cp:coreProperties>
</file>